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945-F546-4CA4-9150-3D0989D7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85C-08CA-47AC-8469-DD8AAFB7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00B-450F-4C45-84E0-69107812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A59-540C-4D40-ACA7-F553B240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CBD-CF23-4DAF-9A60-199199F7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D90-2631-41BE-AADD-120BCBEB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219-D709-4C5C-9620-A702F07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B5A8-44FF-4FF8-BEB3-4AFC9154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4D4-5BE6-4EF1-BF19-60CF9BC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DF29-59B8-4E18-97FA-E886DAC6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C325-07A0-417D-876E-A739A71D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8F5-3753-47C1-8105-07FF406B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8D8-7B1A-4E01-9DD6-3065CAD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3CF4-027C-483A-970A-F1F6170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D5B-AEA9-4F6A-8507-3C8203B0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BF1D-876A-420A-8873-8CB26E60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586C-25B7-4CE4-B3E9-BE3135F3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8016-F4AA-4701-9B83-1A49EA02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F859-3362-4496-9627-148165F4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E4C9-CC0B-4009-8BA2-F66FEAF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6BE4-A694-4E1F-8C17-68310787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9753-1A32-4196-AA5F-C3F08E27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ADF-0F9C-4EAC-BFE1-904562FB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6A51-A2FC-45AB-BFB8-E4283F3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6307-2FB9-4197-85C7-2BD94E3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EE31-7FFF-4745-8CDC-A4D74ED3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6F6E-9FD9-4FB1-BC9E-BBFB319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EE96-4A01-4A8A-B654-9E0082AD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F045-2777-4D8C-9AF2-C1B3F69E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8F07-4D23-4233-AF69-2156EF40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943-92D3-44DA-8998-4E81974D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D70-E781-415D-805B-2209E92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33B-C535-4A12-8345-F24E3474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064-1DEC-4043-ABE1-1F5A8A2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191-479D-4848-800E-7DF7245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169-9D62-4E91-8819-989F692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169-CCF4-4579-99BF-7994475C3F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0943-E799-40E2-8AE6-CA45220DD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1C1-3863-4A53-AE44-EE064FED038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DANht5JPm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Wing and I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747600"/>
            <a:ext cx="56386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Hassle-free Dissection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uman Equivalent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hickensklargequestns"/>
          <p:cNvPicPr/>
          <p:nvPr/>
        </p:nvPicPr>
        <p:blipFill>
          <a:blip r:embed="rId1"/>
          <a:stretch/>
        </p:blipFill>
        <p:spPr>
          <a:xfrm>
            <a:off x="1219320" y="2438280"/>
            <a:ext cx="6400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ample Question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tissue is referred to when one speaks of the “meat” of a chicken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is the function of a ligament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is the function of a tendon?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ame the two main types of movement that occur when a wing is raised and lowered in flight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bone in the wing is connected to the chicken’s body at the shoulder?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ame the two bones found in the forearm of the wing.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types of joint move the wing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type of muscle did you observe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962160" cy="3178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-17723" t="-598" r="44493" b="609"/>
          <a:stretch/>
        </p:blipFill>
        <p:spPr>
          <a:xfrm>
            <a:off x="-533520" y="457200"/>
            <a:ext cx="50292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15788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afety Instructio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hicken may be contaminated with Salmonella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You must wear gloves and goggles at all times.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Keep gloved hands away from your mouth and face!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o not touch other surfaces after handling the chicken.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ll waste must be placed in a plastic bag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e careful with surgical instruments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urgical instruments must be washed with soap and water, and placed in the beaker by the sink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our work surface must be wiped down with soap and water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When all of this is finished, remove your gloves and wash your hands and wrists with soap and water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96480"/>
            <a:ext cx="7023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Goggles – put them on!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Gloves – put them on!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2 paper plates – keep together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ssecting kit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Zippered bag for tissue disposal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Your instructor will bring you a chicken wing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286000"/>
            <a:ext cx="75438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IDEO </a:t>
            </a:r>
            <a:r>
              <a:rPr b="1" lang="en-US" sz="5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ISSEC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3738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Procedur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Carefully extend the wing and identify the sections and joints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Remove as much skin from the thickest parts of the wing as possible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Try not to damage the muscles underneath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5" descr="chicken1"/>
          <p:cNvPicPr/>
          <p:nvPr/>
        </p:nvPicPr>
        <p:blipFill>
          <a:blip r:embed="rId1"/>
          <a:stretch/>
        </p:blipFill>
        <p:spPr>
          <a:xfrm>
            <a:off x="1371600" y="43434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hicken2"/>
          <p:cNvPicPr/>
          <p:nvPr/>
        </p:nvPicPr>
        <p:blipFill>
          <a:blip r:embed="rId2"/>
          <a:stretch/>
        </p:blipFill>
        <p:spPr>
          <a:xfrm>
            <a:off x="4952880" y="43434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3738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Procedure part 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spcAft>
                <a:spcPts val="1576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Identify skin, bone, muscle, tendon, ligament, cartilage and fat.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spcAft>
                <a:spcPts val="1576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Hold the wing down at each joint and alternately pull on each muscle group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spcAft>
                <a:spcPts val="1349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Identify the flexors and extensors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spcAft>
                <a:spcPts val="1576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What happens to wing movement when you cut a muscle?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5625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ndons and Ligamen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hicken3"/>
          <p:cNvPicPr/>
          <p:nvPr/>
        </p:nvPicPr>
        <p:blipFill>
          <a:blip r:embed="rId1"/>
          <a:stretch/>
        </p:blipFill>
        <p:spPr>
          <a:xfrm>
            <a:off x="990720" y="2438280"/>
            <a:ext cx="3200400" cy="2656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hicken4"/>
          <p:cNvPicPr/>
          <p:nvPr/>
        </p:nvPicPr>
        <p:blipFill>
          <a:blip r:embed="rId2"/>
          <a:stretch/>
        </p:blipFill>
        <p:spPr>
          <a:xfrm>
            <a:off x="4952880" y="2438280"/>
            <a:ext cx="35416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64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526160" cy="112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Clean Up!!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61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Place all chicken parts in small bag.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Place all materials in garbage bag.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Use soap and water for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 clean-up.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Clean dissection tools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Place in beaker next to sink. 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Wipe down your tray and bench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Wash your hands thoroughly.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8:14:04Z</dcterms:created>
  <dc:creator>PGHS</dc:creator>
  <dc:description/>
  <dc:language>en-US</dc:language>
  <cp:lastModifiedBy>Cynthia J. Moore</cp:lastModifiedBy>
  <dcterms:modified xsi:type="dcterms:W3CDTF">2011-04-27T16:47:42Z</dcterms:modified>
  <cp:revision>22</cp:revision>
  <dc:subject/>
  <dc:title>Chicken Wing Dissection</dc:title>
</cp:coreProperties>
</file>